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B96BC2-F0A3-44CB-B470-D41BC504AC6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4007ED-E76A-4E0B-A9B1-8F67347F51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8B78B0-47BC-448A-AAE4-E23B042448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19BB8B-FBAF-4144-AC69-FAA10387B1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D23E56-A34B-487A-AC24-37107F3161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DF3DBE-AE5C-4144-9088-14CBC0866C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A17525-7C2F-40C1-BFD9-70E9509A54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17C08E-9A99-481B-A73C-3E9CF1852B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959827-A4B5-4F57-B3E0-4923FCA8BD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87AC4C-8F1F-433C-A46C-DA3657AFAE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13E089-0FEB-4A02-9D2D-E77DE332B7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ED6404-DCA6-4380-8616-D9C0933B64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1FEA0F-FC74-4194-9868-BCAA4581EE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2AC54E-AA0E-4E51-BF9C-CD62157B6C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41530F-7817-42CF-9787-27621DDE78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575A21-BC95-430D-B36F-808BF2B02D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CC4604-36C1-494D-847D-D709591466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CA013E-5F73-4E71-9F6F-18CBCE3515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51DB2F-A856-4DE7-A420-59634376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D84932-FF85-4A85-B080-CB2971F9A3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DF5-FE3A-45E5-8163-6623105B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7C4-BF13-4F62-95A7-B4140A00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334-3D37-4238-8487-6C79AA64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F03-5393-4B3A-BCB0-668F8853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EB3D-D85B-4450-9E20-95F2E507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251E-FEB3-4FF2-9CF0-299A7E49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3C45-1119-4D92-A7B1-499C8A75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7653-932D-40D1-A417-961EF79A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C585-4AE3-4FBE-9E2D-91B3841B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3F25-20B2-4980-9948-84B89269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1815-D5AC-4C23-8AF5-19CBE4B5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6E4-59AC-4A10-BD8A-478E6E7D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46E-51E1-42D0-9073-FA8C1E57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9F41-2AF8-48CA-9FF3-AD677285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AEBA-AA68-4F8B-8B72-34FFA13A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5719-B9E6-432B-B91C-773DE81F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9B02-DF43-4AD4-9158-7AA641AB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9F1-F4A3-4050-80AF-88ABC83B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556-FAF4-4E6C-A766-B7CD3D48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B30-F435-41A5-96E5-D3EB6B64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D5A-DF5F-44B8-85CE-D81826DD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335-7AD6-477E-8689-05928DC1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FE3-C58C-46F3-801D-1D120E27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F08-112D-4BFC-837E-22410C3B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5437-D099-403B-B292-64639D4024E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B476-DD87-4036-98DD-295F810ABD1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Legislative Branch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Content Placeholder 7" descr="Screen shot 2012-10-11 at 1.46.55 PM.png"/>
          <p:cNvPicPr/>
          <p:nvPr/>
        </p:nvPicPr>
        <p:blipFill>
          <a:blip r:embed="rId1"/>
          <a:srcRect l="0" t="-23862" r="0" b="-23862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Content Placeholder 8" descr="Screen shot 2012-10-11 at 1.47.46 PM.png"/>
          <p:cNvPicPr/>
          <p:nvPr/>
        </p:nvPicPr>
        <p:blipFill>
          <a:blip r:embed="rId2"/>
          <a:srcRect l="0" t="-25501" r="0" b="-255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Ses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ach Congress meets for </a:t>
            </a:r>
            <a:r>
              <a:rPr b="1" lang="en-US" sz="3200" spc="-1" strike="noStrike" u="sng">
                <a:solidFill>
                  <a:srgbClr val="cc0099"/>
                </a:solidFill>
                <a:uFillTx/>
                <a:latin typeface="Verdana"/>
              </a:rPr>
              <a:t>two year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divid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sess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odd numbered years following ele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even, election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numbered – the Congress elected in 2008 is the 1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gress and officially bega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ssion Tuesday, January 6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number of the current Congres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ender and Ethnicity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es: 427   House: 347; Senate: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s: 108   House: 88; Senate: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n/Americans: 4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46;  Senate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panics: 3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34;  Senate: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n: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13;  Senate: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verage 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 of Representatives:  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ate:  6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lig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Content Placeholder 3" descr="Screen Shot 2016-01-12 at 1.08.20 PM.pn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35 Me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Qualific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itizen for 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7 yea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characteristics of memb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have been and are white 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s of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e in government (State or local leve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s serve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2 year ter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435 members must be reelected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both houses, the political party that contro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more than half of the seats is known as the majority par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ther is the minority par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ing control of a house of Congress has many advantages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80880" y="2286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Hou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Screen Shot 2016-01-12 at 12.58.33 PM.png"/>
          <p:cNvPicPr/>
          <p:nvPr/>
        </p:nvPicPr>
        <p:blipFill>
          <a:blip r:embed="rId1"/>
          <a:stretch/>
        </p:blipFill>
        <p:spPr>
          <a:xfrm>
            <a:off x="1165320" y="1295280"/>
            <a:ext cx="63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Screen Shot 2016-01-12 at 12.58.19 PM.png"/>
          <p:cNvPicPr/>
          <p:nvPr/>
        </p:nvPicPr>
        <p:blipFill>
          <a:blip r:embed="rId1"/>
          <a:stretch/>
        </p:blipFill>
        <p:spPr>
          <a:xfrm>
            <a:off x="762120" y="1981080"/>
            <a:ext cx="7111800" cy="2971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53352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Sen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jority party provides the leadership of that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er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peaker of the Hou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osen from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ird in lin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and majority party has significant power over the legislative proc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aker for the 1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gress is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Paul Ry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fter a vot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rk Twai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you were an idiot. And suppose you were a member of Congress.  But I repeat myself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at is expressed in this quo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y are members of Congress subject to comments by people such as Jimmy Fallon, Jay Leno, Jon Stewart,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Lead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leader of the maj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Kevin McCarth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(R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Whi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assists the speaker and majority leader in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pping u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pport for legis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teve Scalise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 (R-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Leader – leader of the min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Nancy Pelosi (D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Whip – assists the minority lea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Steny Hoyer (D-M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905120"/>
            <a:ext cx="871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state is guaranteed at lea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 deleg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the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representatives is determin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 is counted every 10 years by the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cens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atives are elec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stri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in states with more than 1 representativ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520" y="5638680"/>
            <a:ext cx="54864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eorgia"/>
              </a:rPr>
              <a:t>Representation Changes after the 2000 Censu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2" name="Picture Placeholder 2" descr="Screen Shot 2015-04-21 at 10.37.30 AM.png"/>
          <p:cNvPicPr/>
          <p:nvPr/>
        </p:nvPicPr>
        <p:blipFill>
          <a:blip r:embed="rId1"/>
          <a:srcRect l="326" t="0" r="682" b="0"/>
          <a:stretch/>
        </p:blipFill>
        <p:spPr>
          <a:xfrm>
            <a:off x="932040" y="612720"/>
            <a:ext cx="71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440" y="4659480"/>
            <a:ext cx="548640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eats gained/lost after 2010 census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4" name="Picture Placeholder 4" descr="Screen Shot 2015-04-21 at 10.38.06 AM.png"/>
          <p:cNvPicPr/>
          <p:nvPr/>
        </p:nvPicPr>
        <p:blipFill>
          <a:blip r:embed="rId1"/>
          <a:srcRect l="-316" t="0" r="-154" b="0"/>
          <a:stretch/>
        </p:blipFill>
        <p:spPr>
          <a:xfrm>
            <a:off x="831960" y="612720"/>
            <a:ext cx="7394400" cy="4114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03-201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7" name="Content Placeholder 3" descr="Screen shot 2012-10-11 at 9.19.54 AM.png"/>
          <p:cNvPicPr/>
          <p:nvPr/>
        </p:nvPicPr>
        <p:blipFill>
          <a:blip r:embed="rId1"/>
          <a:srcRect l="-84083" t="0" r="-8408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12 - 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9" name="Content Placeholder 3" descr="Screen shot 2012-10-11 at 9.28.52 AM.png"/>
          <p:cNvPicPr/>
          <p:nvPr/>
        </p:nvPicPr>
        <p:blipFill>
          <a:blip r:embed="rId1"/>
          <a:srcRect l="-86107" t="0" r="-86107" b="0"/>
          <a:stretch/>
        </p:blipFill>
        <p:spPr>
          <a:xfrm>
            <a:off x="912960" y="1905120"/>
            <a:ext cx="8110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ional districts are drawn by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pportionment occurs when reps are added/ta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cts are NOT to be drawn in a way that is advantageous for a certain group (political party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rrymandering – drawing an odd-shaped district for political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st Gerrymandered Congressional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 for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at least 9 yea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characteris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, m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y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in government (state, House of Reps., etc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s of Off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ors ser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erms that last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6 yea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ximately 1/3 of the Senate is up for reelection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2 Senators elected from each state for a total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portance of 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mers believed Congress would be immensely impor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 article (and longest) of the Constitution is dedicated to the Legislative body of the government of the U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7" name="Content Placeholder 7" descr="Screen shot 2012-10-11 at 10.37.16 AM.png"/>
          <p:cNvPicPr/>
          <p:nvPr/>
        </p:nvPicPr>
        <p:blipFill>
          <a:blip r:embed="rId1"/>
          <a:srcRect l="-10156" t="0" r="-10156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2" descr="Screen Shot 2017-01-13 at 9.32.55 AM.png"/>
          <p:cNvPicPr/>
          <p:nvPr/>
        </p:nvPicPr>
        <p:blipFill>
          <a:blip r:embed="rId2"/>
          <a:srcRect l="0" t="1384" r="0" b="1384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9224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</a:t>
            </a:r>
            <a:r>
              <a:rPr b="0" lang="ja-JP" sz="4400" spc="-1" strike="noStrike">
                <a:solidFill>
                  <a:srgbClr val="003366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chard Durbin - (D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to the Senate in 1996; from Spring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 for election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ed Senate seat of mentor, Sen. Paul Sim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176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mmy Duckworth – (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in 2016 by defeating incumbent Mark Kirk (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aq War veteran (lost both legs and partial use of right arm); Purple Heart recipient; retired as Lieutenant Colonel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er Assistant Secretary of the Department of Veterans Affa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533520" y="2792520"/>
            <a:ext cx="6324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ber of the House for 2 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ried with a daugh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ate Leade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President of the Senate is the Vice President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United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votes in case of a t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is present in the Sen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urrentl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Joe Bi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Mike P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Januar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y-to-day leader of the Senate is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President Pro Tempo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rmally the most senior member of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have as much power as the Speak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,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rrin Hatch </a:t>
            </a: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(R-P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Mitch McConnell (R-K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aj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John Cornyn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R-T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Chuck Schumer (D-N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in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Dick Durbin (D-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itutionally Mand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7" descr="Screen Shot 2017-01-13 at 9.58.46 AM.png"/>
          <p:cNvPicPr/>
          <p:nvPr/>
        </p:nvPicPr>
        <p:blipFill>
          <a:blip r:embed="rId1"/>
          <a:stretch/>
        </p:blipFill>
        <p:spPr>
          <a:xfrm>
            <a:off x="1219320" y="2971800"/>
            <a:ext cx="2350800" cy="1600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Screen Shot 2017-01-13 at 9.59.38 AM.png"/>
          <p:cNvPicPr/>
          <p:nvPr/>
        </p:nvPicPr>
        <p:blipFill>
          <a:blip r:embed="rId2"/>
          <a:stretch/>
        </p:blipFill>
        <p:spPr>
          <a:xfrm>
            <a:off x="4724280" y="3048120"/>
            <a:ext cx="2130480" cy="1371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Screen Shot 2017-01-13 at 9.55.06 AM.png"/>
          <p:cNvPicPr/>
          <p:nvPr/>
        </p:nvPicPr>
        <p:blipFill>
          <a:blip r:embed="rId3"/>
          <a:stretch/>
        </p:blipFill>
        <p:spPr>
          <a:xfrm>
            <a:off x="3276720" y="4854600"/>
            <a:ext cx="1600200" cy="144936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0"/>
          <p:cNvSpPr/>
          <p:nvPr/>
        </p:nvSpPr>
        <p:spPr>
          <a:xfrm>
            <a:off x="5181480" y="51814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Verdana"/>
              </a:rPr>
              <a:t>Mike Pence (Jan. 2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Content Placeholder 3" descr="Screen Shot 2017-01-13 at 9.31.59 AM.png"/>
          <p:cNvPicPr/>
          <p:nvPr/>
        </p:nvPicPr>
        <p:blipFill>
          <a:blip r:embed="rId1"/>
          <a:srcRect l="0" t="24250" r="0" b="24250"/>
          <a:stretch/>
        </p:blipFill>
        <p:spPr>
          <a:xfrm>
            <a:off x="912960" y="1828800"/>
            <a:ext cx="8110440" cy="42670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ublican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mocratic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9" name="Content Placeholder 3" descr="Screen Shot 2017-01-13 at 9.51.26 AM.png"/>
          <p:cNvPicPr/>
          <p:nvPr/>
        </p:nvPicPr>
        <p:blipFill>
          <a:blip r:embed="rId1"/>
          <a:srcRect l="0" t="3471" r="0" b="3471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Compens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lar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gress:  $174,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aker of House:  $223,5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ce President:  $230,7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ident Pro Tem:  $193,4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or Leaders:  $193,4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42372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Aaron Schock</a:t>
            </a:r>
            <a:br>
              <a:rPr sz="44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(Resigned/Special Election to be held)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7" name="Content Placeholder 6" descr="Screen shot 2012-10-11 at 8.56.30 AM.png"/>
          <p:cNvPicPr/>
          <p:nvPr/>
        </p:nvPicPr>
        <p:blipFill>
          <a:blip r:embed="rId1"/>
          <a:srcRect l="-501" t="0" r="-501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7" descr="Screen shot 2012-10-11 at 9.00.19 AM.png"/>
          <p:cNvPicPr/>
          <p:nvPr/>
        </p:nvPicPr>
        <p:blipFill>
          <a:blip r:embed="rId2"/>
          <a:srcRect l="0" t="-11615" r="0" b="-11615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 Salar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Special tax ded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Travel exp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ealth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Retirement Plan/Pen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$150,0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Franking Privile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Perks: Parking, Printing, et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920" y="838080"/>
            <a:ext cx="524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following questions on a piece of paper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371600" y="6019920"/>
            <a:ext cx="65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 have completed the Preview, share your responses with a partner or with the cla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9524-BFFF-4BC5-AD4A-6349BEABF0E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0" y="5446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80880" y="838080"/>
            <a:ext cx="74678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photograph and biography, what facts do you know about Congressman Schoc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ngs about Aaron Schock do you think are typical for a member of Congress? What things might be atyp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his background do you think would help make Aaron Schock an effective legislator? Expl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y will you and some of your paren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ble to vote for Aaron Schock in this ele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aron Scho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7" name="Content Placeholder 3" descr="Screen shot 2012-10-11 at 9.06.06 AM.png"/>
          <p:cNvPicPr/>
          <p:nvPr/>
        </p:nvPicPr>
        <p:blipFill>
          <a:blip r:embed="rId1"/>
          <a:srcRect l="-59538" t="0" r="-59538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9152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Darin Lahood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9" name="Content Placeholder 2" descr="Screen Shot 2016-01-12 at 12.30.24 PM.png"/>
          <p:cNvPicPr/>
          <p:nvPr/>
        </p:nvPicPr>
        <p:blipFill>
          <a:blip r:embed="rId1"/>
          <a:srcRect l="6367" t="0" r="6367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idence:  Dunlap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ital Status:  Marri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Occupation:  Ill. State Senate, Tazew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’s Attorney’s Office, Lawyer (Miller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ll, and Trigg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Political:  Illinois State Sen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ucation:  Academy/Spalding High School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ras College, John Marshall Law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thdate:  8/12/1928; Peoria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gion:  Roman Cathol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80640" y="609120"/>
            <a:ext cx="81630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hat makes for an effective    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legislator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Bi-cameral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aning </a:t>
            </a: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two hou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 – low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st to the peopl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representation based on pop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 – upp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al state representation (2 per 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by </a:t>
            </a: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Article 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Co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ul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reat Compromi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Connecticut Comprom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J plan favored equal representation for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ginia plan favored larger states with higher pop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8:41:23Z</dcterms:created>
  <dc:creator>Stephanie Fogarty</dc:creator>
  <dc:description/>
  <dc:language>en-US</dc:language>
  <cp:lastModifiedBy>olsonl olson</cp:lastModifiedBy>
  <cp:lastPrinted>2012-10-11T18:42:25Z</cp:lastPrinted>
  <dcterms:modified xsi:type="dcterms:W3CDTF">2017-01-13T16:15:44Z</dcterms:modified>
  <cp:revision>122</cp:revision>
  <dc:subject/>
  <dc:title>The Legislative Branch</dc:title>
</cp:coreProperties>
</file>